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00-D434-4D1C-A7B5-D03A8E0D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31C-128D-4AB6-ACBE-CD6EC88E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7A2-F729-416D-B677-63B73E7F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0D7-D9C6-4493-BF4A-83E9E59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869-F8F4-4A1D-B94B-D4B77DC1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1A5-1875-4470-BF3A-29E210C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832-1FE1-479A-A1E9-84FF1421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665-B2BF-44FA-A04A-B7A8EEE8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0F89-849F-495E-8CD0-FBE42FD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2DF4-82F4-4267-A3D5-FD6A73F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0EC8-879A-43BD-9CEF-A3382B38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E22-AFB2-4FF5-884C-3092128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2CB-6DCC-4BEE-8864-31661DB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C499-9002-483F-8540-3331EFD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8F9-F802-4D74-BA31-BD5C163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7BD-3935-4429-A018-019E0ADA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099-1AE0-4C4B-AEF5-5988E55A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DD8-82E9-415B-9917-DBB2902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80E-A5AB-489B-B65E-46CC08AF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EA5-7EF1-498A-9F00-DF166A8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E1B-8866-4F86-9D5E-1F621A9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C1D-1209-4C05-9468-042F49E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35C-F797-41C7-BE6A-96B2A6A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391-FC50-4A21-A0E3-964AEEB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733-69D5-4FCD-B95D-022197196E8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BCA-BF1E-4084-8070-981C585252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etopisi.ru/images/c/c2/&#1064;&#1077;&#1082;&#1089;&#1087;&#1080;&#1088;&#1091;&#1089;1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левое поведение в общен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53"/>
                </a:solidFill>
                <a:latin typeface="Cambria"/>
              </a:rPr>
              <a:t>Лектор: кандидат социологических наук, доцент Л.К. Качалов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D49E-3AB5-4325-A364-96EF1F2830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новидности социального стату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EF74-C1EC-4902-8417-A7783A1B368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Схема 5" descr=""/>
          <p:cNvPicPr/>
          <p:nvPr/>
        </p:nvPicPr>
        <p:blipFill>
          <a:blip r:embed="rId1"/>
          <a:stretch/>
        </p:blipFill>
        <p:spPr>
          <a:xfrm>
            <a:off x="1066680" y="2425680"/>
            <a:ext cx="6553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рав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употребил понятия достигаемый и приписываемый статус в современном понимании американский социолог и антрополог Ральф Линтон в книг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ton R. The Stady of Ma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BA3-0B0D-4738-A02C-F83F2D8DA14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писываемый стату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тус, в котором человек рожден (прирожденны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 нему относятся пол, возраст, раса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нный статус должен получить подкрепление в общественном мнении, социальном устройстве общ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896D-1F47-45C9-A234-F3A1ACE9FE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писываемый стату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ет  быть и не прирожденным. Их приобретают. Например, некровные родственники, которые называются родственниками-в-зако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аким образом, приписываемый статус – это любой статус, полученный не по своей воле, над которым индивид не имеет 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12D4-99F5-43F9-8B7D-515A9858C5E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стигаемый стату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обретается в результате свободного выбора, личных усилий и находится под контролем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ществуют смешанные статусы, которые обладают чертами приписываемого и достигаем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4CD-209E-4975-B73C-B03CB1932E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татусный набор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онятие ввел Р.Мертон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татусы (определяют главное в жизн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основные статусы (влияют на детали повед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 каждым статусом стоит большая социальная группа или катего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D212-35FE-426B-942D-F60C76BA046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нятие социальной ро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ь – это ожидаемое поведение связи с определенным статус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A33-FE6F-40BB-94A0-7FA93960BDD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циальная ро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образец поведения, закрепившийся, утвердившийся, отобранный как целесообразный для людей данного статуса в данном обще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относительно постоянная и внутренне связанная система действ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E36-9539-4702-9275-D86277778F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29440" y="829440"/>
            <a:ext cx="771300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 чего зависит процесс реализации рол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био – и психогенных компонентов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личностного образ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определения роли в групп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структуры групп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степени психологического вживания человека в групп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AB2-E530-4325-8F08-2D86158E8A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. Морфология роли. Классификация ро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D5D-0F76-4845-A773-AAA9C82CF3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лан лекц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арактеристика понятия «Ро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рфология роли. Классификация ро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е роли и поведение лич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напряженность и ролевой конфлик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98F-3CBD-4D95-869B-95A6CD34657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рфология рол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задача (чего я хочу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позиция (мой взгляд на партнер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ые действия (набор физических средств воздейств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ые нормы Правила действ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свобода (эмоционально-психологическая пластичност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ECC-4E5B-44DB-B97E-A5164138FF7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рфология ро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ые состояния (эмоционально-психологический настрой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пластичность – ригид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ой диапазон (сфера возможного использования роли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ая защита (гарантии, необходимые для выполнения рол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3CF4-179B-42D9-8D32-2B8F04366B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роли по Парсонс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моциона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особ пол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шта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лиз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тив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FB3A-8699-4149-AAF8-9FFE862496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рол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Содержимое 4" descr=""/>
          <p:cNvPicPr/>
          <p:nvPr/>
        </p:nvPicPr>
        <p:blipFill>
          <a:blip r:embed="rId1"/>
          <a:stretch/>
        </p:blipFill>
        <p:spPr>
          <a:xfrm>
            <a:off x="291960" y="2316240"/>
            <a:ext cx="8626680" cy="3767040"/>
          </a:xfrm>
          <a:prstGeom prst="rect">
            <a:avLst/>
          </a:prstGeom>
          <a:ln w="0">
            <a:noFill/>
          </a:ln>
        </p:spPr>
      </p:pic>
      <p:sp>
        <p:nvSpPr>
          <p:cNvPr id="16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1E23-58D2-45C7-8D79-27D106A99F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3. Социальные роли и поведение лич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CFA-70C6-40AA-BA69-1B770C281A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оль осуществляет связь личности и общест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о может функционировать тогда, когда есть люди, выполняющие определенные действ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чность нуждается в самоутверждении через действ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FBF-651D-46F1-8E34-A86AA25E0C4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действие общества на лично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исывает ролевые действ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нкционирует ролевое повед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бирает людей для ролевых действ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правляет ролевыми действиями через создание ситуац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D9D-12DC-4295-A9ED-14052413124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акторы ролевого повед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арактер обстоятель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ункциональная целесообраз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окультурные трад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рриториальные ц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ые станда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жидания ближайшего окру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0B11-3076-4AD0-8CE1-BC535BC455F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змы влияния общества на ролевое повед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ханизм отб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ханизм предписы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ханизм 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B23-4250-4508-8BE6-0C6D677876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4. Ролевое напряжение и ролевой конфлик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5CB-765A-4605-AC11-46D44E95F3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. Шекспи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сь мир – теат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ем женщины, мужчины – все акт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них свои есть выходы, уходы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каждый не одну играет роль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3" descr="Картинка 40 из 12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429000"/>
            <a:ext cx="196560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A79-467D-4D56-80DC-770C08DA4FB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акторы повышения ролевого напряж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адекватная ролевая подготов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евой конфлик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6B0-1E84-4D10-8430-D8E77B16C43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адекватная ролевая подготов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язана с прерывностью социализ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ладание формальных правил поведения в подготовке личности к реализации ро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36A-59CE-4E91-8223-25EAF14DD7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новидности ролевых конфлик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ду ро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еделах одной ро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5" descr="4-web1"/>
          <p:cNvPicPr/>
          <p:nvPr/>
        </p:nvPicPr>
        <p:blipFill>
          <a:blip r:embed="rId1"/>
          <a:stretch/>
        </p:blipFill>
        <p:spPr>
          <a:xfrm>
            <a:off x="6172200" y="3124080"/>
            <a:ext cx="1724040" cy="2857680"/>
          </a:xfrm>
          <a:prstGeom prst="rect">
            <a:avLst/>
          </a:prstGeom>
          <a:ln w="0">
            <a:noFill/>
          </a:ln>
        </p:spPr>
      </p:pic>
      <p:sp>
        <p:nvSpPr>
          <p:cNvPr id="193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5F5-1F3A-47C7-8098-DDB78CA0E58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йствия, снижающие ролевой конфлик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ционализ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ение ро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улирование ро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4FD-71DD-4A6B-9E93-22DA5A214C5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ласти применения теории ро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атральная психотех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ория управ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о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гнитивно-эмотивная трансформация лич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19A-8027-4655-8EB4-9AD265B9EE4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иролевой конфлик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ционализация ро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улирование ро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170-6A90-445D-AE6E-F5F83A83C2A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троль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социальный статус? Какие статусы существую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социальная рол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 чего зависит процесс реализации рол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ова структура рол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м образом общество воздействует на ролевое поведени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D06-20D1-41F0-89A6-D60ADDBD96E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троль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.С чем связаны ролевое напряжение и    ролевой конфлик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. Каковы основные типы ролевых  конфликто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. Какие виды действий существуют для защиты от ролевых конфликто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83B0-41A4-48D1-B086-C527A157AC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43840" y="69120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Характеристика понятия «Рол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ь – способ поведения задаваемый обществ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ловек выполняет множество функций в обще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6D9-1401-4B9E-BFE8-CAF35D70A16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ж.Г.  Мид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заимодействие между людьми как бесконечный процесс взаимопроникновения в роли друг друга. Человек постоянно занимается построением роли. (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le-mak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image085"/>
          <p:cNvPicPr/>
          <p:nvPr/>
        </p:nvPicPr>
        <p:blipFill>
          <a:blip r:embed="rId1"/>
          <a:stretch/>
        </p:blipFill>
        <p:spPr>
          <a:xfrm>
            <a:off x="6400800" y="304920"/>
            <a:ext cx="2254320" cy="304776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DDF7-969C-4858-AF34-2CA6755184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. Линто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тусная теория ро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отношение роли и стат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ждому определенному статусу предписано определенное поведение, которое ожидают от носителя стат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ли закреплены в системе культу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8DB-6AEA-4FFF-862F-1E3E3105C48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циальная ро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жи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е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ипичн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данного стат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анном обще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по Р. Линтону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CB01-5908-4239-9B45-65486B7A451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оциальный стату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казатель  положения, занимаемого индивидом, группой в обще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зиция  предполагает определенные права и обяза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ножество статусов индиви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3553-5289-4926-98D0-60F3C052D1E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оциальный и личный стату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 – положение человека в обще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чный – положение индивида в малой групп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459-8683-4304-8813-997F0CF2B3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онид</cp:lastModifiedBy>
  <dcterms:modified xsi:type="dcterms:W3CDTF">2020-08-26T12:18:4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